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164E1-ED8E-476E-9F8B-4CD58CA3D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B926F-2ABF-40BA-8666-6FE983F7F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F2F6-8BC2-4DE0-8C89-6D9ECACA9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5A53A-F60B-4F3E-9D23-3954B9E23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7E00F-A2EB-49C2-92B9-39CCCC390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F96D6-B67C-4AF7-AD21-057270436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5FA73-80BA-4797-A8D3-5D2A4F49F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52478-BCE4-4578-BBAC-2362FAB40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CB6C5-F9D4-48E4-ABD3-FEBDBDD57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48431-74FC-4CD1-816E-4DDDEEA22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17EE-60B5-44D5-AF71-74EFB855F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D302E-C4B5-462C-9EE1-EFC6CAA0E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B352BF-4745-4C32-BA6A-86AAF9720F7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45240" cy="711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45240" cy="711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4-01-08T17:26:42Z</dcterms:modified>
  <cp:revision>96</cp:revision>
  <dc:subject/>
  <dc:title>No Slide Title</dc:title>
</cp:coreProperties>
</file>